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8DFE-823A-4EF6-9433-F5A69B366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C4A0-8444-4E9C-A00A-ABF02C0A7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919D-756C-40C3-9F32-9211FA5E2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B86-973B-4F98-A7F6-FCD792BC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03F-AD2E-410E-B7B9-BC328500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4B2-A097-4156-B4A0-342BEC2F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6EC-0FB8-424D-94C9-8DE4F0F1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E959-D38C-4210-AA48-F7C69137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27F9-5EEA-434A-B2FB-120E50FB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2083-9723-43B5-9A19-E4B24559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98B7-13D6-4C10-994E-B62576BB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200C-DBAB-41F1-ACE9-C88A2022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5954-9985-4ACD-BDD4-ADFA3655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532C-CF62-4438-AC42-F0BCFD70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A4C-6EEE-4911-8548-BE09FA88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FEBD-4E7F-4386-A3D5-D51F1C1A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F73F-56E3-480C-89B6-A8A3F6FB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561F-BFD4-4891-9C5D-3B5259D6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411F-91C3-402D-A80A-F9FF9A23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C7D6-277C-4B22-9479-843861B1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9B2-EA7C-42EA-8ECE-ECA1AC1E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5F5-6B88-437C-AB63-1982EB8C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190-378D-4351-A7C7-8BF36F69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0DF-314B-48E5-AA2B-9B31C3A2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524-88C3-4CCA-9A30-73F7E970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2B2-4A17-477C-88F5-D39EDA4D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B10-5613-4262-8AD8-4B1E903E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0168-A652-4BB1-B95A-AEDA980D79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4FD1-7727-4C40-9527-63A02066BE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143000"/>
            <a:ext cx="7715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ИСТРАЖИВАЊА У СИСТЕМУ ЗДРАВСТВЕНЕ ЗАШТИТ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према и планирање научног истраживања. Постављање циљева и хипотеза. Дефинисање зависних и независних варијабли. Дизајн студије. Узорковање. Евалуација клиничког ис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0033"/>
                </a:solidFill>
                <a:latin typeface="Times New Roman"/>
              </a:rPr>
              <a:t>Дизајнирање истраживањ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сервационе студије могу б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ескриптивне (описне)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тврђују дистрибуцију одређених карактеристика популац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аналитичк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испитују повезаност узрока и последи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Протокол клиничког испитивањ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љеви и хипот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јуми за селекцију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ема рандом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 начина примене испитиваних средст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е за прикупљање и анализу по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собине узор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презентат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рљ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вољне велич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мерен ка циљу истраж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твар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кономич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ређивање испитаника у истраживањ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2692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во треба дефинисати критеријуме који дефинишу циљну попул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тим одредити који је минимални број испитаника у нашем узорку, а да узорак и даље буде репрезентат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 ћемо регрутовати испитанике? Да ли ће нам бити доступни? Да ли ће хтети да учествују у студиј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0033"/>
                </a:solidFill>
                <a:latin typeface="Times New Roman"/>
              </a:rPr>
              <a:t>Врсте узора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000" y="1600200"/>
            <a:ext cx="8064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Згодни” узо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о су испитаници који задовољавају критеријуме за избор, а лако су доступни истражив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едан за другим (узастопно) се укључују сви испитаници који су доступни истражив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Узастопни узорак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је пожељан када обухвата целу доступну популацију, кроз временски период који је довољно д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0033"/>
                </a:solidFill>
                <a:latin typeface="Times New Roman"/>
              </a:rPr>
              <a:t>Врсте узора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11280" y="1600200"/>
            <a:ext cx="8208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лучајни узорак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је златни стандард за обезбеђење могућности генерализације закључака. У случајном узорку свака јединка популације има подједнаку шансу да буде изаб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ређивање величине узор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рој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тандардна гре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тандардна девијациј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а основу претходне студ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5076720" y="2349360"/>
                <a:ext cx="352764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ређивање величине узор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број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стандардна грешк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ира се на основу резултата претходних студ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стандардна девиј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позната на основу претходне студије или се добија из пилот студије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испитан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000000"/>
                </a:solidFill>
                <a:latin typeface="Times New Roman"/>
              </a:rPr>
              <a:t>n=s</a:t>
            </a:r>
            <a:r>
              <a:rPr b="0" lang="sr-Latn-C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5400" spc="-1" strike="noStrike">
                <a:solidFill>
                  <a:srgbClr val="000000"/>
                </a:solidFill>
                <a:latin typeface="Times New Roman"/>
              </a:rPr>
              <a:t>/SE</a:t>
            </a:r>
            <a:r>
              <a:rPr b="0" lang="sr-Latn-C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ређивање величине узор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14400" y="2133360"/>
            <a:ext cx="77724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офтверска апликација: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* Power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 основу података из претходно извршених истраживањ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Рандомизациј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рставање испитаника методом случајног из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љ рандомизације: елиминисање узорачке пристр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xcell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пција: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rand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азлике између клиничког истраживања и клиничке пракс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4869000" y="2563920"/>
            <a:ext cx="3060720" cy="324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rcRect l="0" t="0" r="11190" b="11544"/>
          <a:stretch/>
        </p:blipFill>
        <p:spPr>
          <a:xfrm>
            <a:off x="1488960" y="2567160"/>
            <a:ext cx="27561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обрење Етичког комите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ложењ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каз метод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ипотеза и очекивани резулт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ја за испитанике и информисани приста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30033"/>
                </a:solidFill>
                <a:latin typeface="Times New Roman"/>
              </a:rPr>
              <a:t>Извођење студије и скупљање податак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33"/>
                </a:solidFill>
                <a:latin typeface="Times New Roman"/>
              </a:rPr>
              <a:t>Дизајн студије детерминише временски период за прикупљање подат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Анализирање подата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33"/>
                </a:solidFill>
                <a:latin typeface="Times New Roman"/>
              </a:rPr>
              <a:t>Статистичка обрада и приказ добијених резул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33"/>
                </a:solidFill>
                <a:latin typeface="Times New Roman"/>
              </a:rPr>
              <a:t>Резултати се представљају табеларно и графи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330033"/>
                </a:solidFill>
                <a:latin typeface="Times New Roman"/>
              </a:rPr>
              <a:t>Поређење група у истраживањ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контролна г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пре експеримента (К1)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после експеримента (К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експериментална гру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пре експеримента (Е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после експеримента (Е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330033"/>
                </a:solidFill>
                <a:latin typeface="Times New Roman"/>
              </a:rPr>
              <a:t>Поређење група у истраживањ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ма значајних разлика између К1 и К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је значајне разлике између Е1 и Е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је значајне разлике између Е2 и К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Публиковање резулта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У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Метод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Резулт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Дискус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Ефикасност у научном истраживањ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спех у научном истраживању зависи од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владавања методолошким аспектима истражив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навања области истраживања (на пример: физиологије, патофизиологије, фармакологије, дијагностике... ендокриног систем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330033"/>
                </a:solidFill>
                <a:latin typeface="Times New Roman"/>
              </a:rPr>
              <a:t>Шта је научно истраживањ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61009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Процес тражења који ј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Систематич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описује фен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даје објашњења/ тео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тестира хипот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0033"/>
                </a:solidFill>
                <a:latin typeface="Times New Roman"/>
              </a:rPr>
              <a:t>Кораци у спровођењу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921040" y="1778040"/>
            <a:ext cx="56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Постављање истраживачког 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67960" y="321300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Дизајнирањ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640120" y="4749840"/>
            <a:ext cx="32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Спровођењ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195920" y="479736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Анализа резул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854280" y="314964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Извођење закључ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H="1" flipV="1">
            <a:off x="5867280" y="2362320"/>
            <a:ext cx="99072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6553080" y="3809880"/>
            <a:ext cx="53352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4267080" y="5029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2209680" y="3733920"/>
            <a:ext cx="68580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2209320" y="2362320"/>
            <a:ext cx="114300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Фазе научног истраживањ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1. Избор и формулисање истраживачког питања (наслов ра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2. Планирање истраживања (дизајнирање студ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3. Извођење студије и скупљање по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4. Анализа података (статистичка обрада и приказ добијених резулта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5. Извођење закључака (могуће формулисање нових истраживачких пита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6. Публиковање резул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Избор истраживачког питањ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06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вање лит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авање лит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радња са мен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раживачко питање је циљ студије, нејасност коју истраживач жели да разреши мерењима на својим испитани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Елементи истраживачког питања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ПОПУЛ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УЗРОК (НЕЗАВИСНА ВАРИЈАБЛ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ИСХОД (ЗАВИСНА ВАРИЈАБЛ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11280" y="333360"/>
            <a:ext cx="792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330033"/>
                </a:solidFill>
                <a:latin typeface="Times New Roman"/>
              </a:rPr>
              <a:t>Finer- </a:t>
            </a:r>
            <a:r>
              <a:rPr b="0" lang="sr-RS" sz="3800" spc="-1" strike="noStrike">
                <a:solidFill>
                  <a:srgbClr val="330033"/>
                </a:solidFill>
                <a:latin typeface="Times New Roman"/>
              </a:rPr>
              <a:t>Концепт истраживањ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9640" y="2057400"/>
            <a:ext cx="7632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bl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водљиво:довољан број испитаника, техничка подршка, буџет, мали об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estin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Интересан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за истраживача и стручну јав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Но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уди нову информац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c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Етич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поштује етичке принцип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Релева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може се имплементирати у рутинском рад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0033"/>
                </a:solidFill>
                <a:latin typeface="Times New Roman"/>
              </a:rPr>
              <a:t>Дизајнирање истраживањ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псервацион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хорт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група се прати одређено в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удије пресе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група се испита у једном трену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удије “случај-контрола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две групе, разликују се по исх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ксперименталн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ндомизирана, двоструко слепа клиничка студ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две групе се формирају случајним избором, а интервенција остаје скривена од испитивача и пацијената до краја студије (двоструко слепа студ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8:57:24Z</dcterms:created>
  <dc:creator>User</dc:creator>
  <dc:description/>
  <dc:language>en-US</dc:language>
  <cp:lastModifiedBy>User</cp:lastModifiedBy>
  <dcterms:modified xsi:type="dcterms:W3CDTF">2019-02-09T22:36:59Z</dcterms:modified>
  <cp:revision>32</cp:revision>
  <dc:subject/>
  <dc:title>Eksperimentalni i klinički aspekti fiziologije i patofiziologije pluća</dc:title>
</cp:coreProperties>
</file>